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7EE-451B-4C40-8E51-EFB92C90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4FA-E70E-4475-9A7F-ADC88933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D65-40C6-4FC8-A0F7-AC2AC2B9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A35-9FCB-45B3-B4B7-CCE89D74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A9AA-5D6E-4F85-BDCB-E3D63399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6ADE-BC15-40C8-BAF6-C22300D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5C81-2798-4372-BE80-B9922361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36EA-62DE-4105-AD31-D4191547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11EF-92E1-40A2-81F3-4C63FCBA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CB63-13BA-4046-9B2A-04611E5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C49-4F99-4241-802B-736AE34A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6AE-9989-4A40-B1DC-E62A07B7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2D46-71A5-477B-8891-B3546E49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EA8B-F9F4-44DF-B8F6-BE7E72A6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E202-AF8B-48AF-BB9B-3D2509F9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927C-2EDB-448F-9CBD-6C7D68B9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829D-2D6F-4398-96DF-59B049CC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59B-3486-42DA-96DB-FEC66764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CB4-397E-4864-995D-4CEAB18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FF3-A75C-47B6-8799-9346BCBF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5FB-F22D-4E89-900A-07CBA339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4B4-0030-465F-B24E-DB7D7DD7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8BE-3F33-4ADA-BAD3-59786C61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EAE-CC2D-443F-B776-4EF66D6F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E6E-684E-4037-9625-661F01B6A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D576-98FC-47A3-9E9F-F52D3FE248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ssé Composé ou Imparfai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8960" y="32000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st la </a:t>
            </a:r>
            <a:r>
              <a:rPr b="0" lang="en-US" sz="36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question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ontinual   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gard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 tableau quand mon portabl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onn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9780711232129.jpg"/>
          <p:cNvPicPr/>
          <p:nvPr/>
        </p:nvPicPr>
        <p:blipFill>
          <a:blip r:embed="rId1"/>
          <a:stretch/>
        </p:blipFill>
        <p:spPr>
          <a:xfrm>
            <a:off x="2133720" y="4038480"/>
            <a:ext cx="5181480" cy="21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DownloadedFile-4.jpeg"/>
          <p:cNvPicPr/>
          <p:nvPr/>
        </p:nvPicPr>
        <p:blipFill>
          <a:blip r:embed="rId2"/>
          <a:stretch/>
        </p:blipFill>
        <p:spPr>
          <a:xfrm>
            <a:off x="3962520" y="3809880"/>
            <a:ext cx="20318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6708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à l’ép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autre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’hab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sou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quelque 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e temps en te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le dimanche, le 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MCj04235510000[1]"/>
          <p:cNvPicPr/>
          <p:nvPr/>
        </p:nvPicPr>
        <p:blipFill>
          <a:blip r:embed="rId1"/>
          <a:stretch/>
        </p:blipFill>
        <p:spPr>
          <a:xfrm>
            <a:off x="6858000" y="0"/>
            <a:ext cx="16444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6708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ou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ous les 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ra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généra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MCj04235510000[1]"/>
          <p:cNvPicPr/>
          <p:nvPr/>
        </p:nvPicPr>
        <p:blipFill>
          <a:blip r:embed="rId1"/>
          <a:stretch/>
        </p:blipFill>
        <p:spPr>
          <a:xfrm>
            <a:off x="6858000" y="0"/>
            <a:ext cx="16444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Conditions (non-action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88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re is a class of verbs which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do not express action at all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Rather, they express </a:t>
            </a: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conditions, states of being, or states of mi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When these verbs occur in a past tense, it is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almost alway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8000"/>
                </a:solidFill>
                <a:latin typeface="Tahoma"/>
              </a:rPr>
              <a:t>the imparfait.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j0294935"/>
          <p:cNvPicPr/>
          <p:nvPr/>
        </p:nvPicPr>
        <p:blipFill>
          <a:blip r:embed="rId1"/>
          <a:stretch/>
        </p:blipFill>
        <p:spPr>
          <a:xfrm>
            <a:off x="1219320" y="2057400"/>
            <a:ext cx="35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3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004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pen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23520" y="281952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sa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29560" y="3962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cr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397320" y="510552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voir et ê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MPj04033300000[1]"/>
          <p:cNvPicPr/>
          <p:nvPr/>
        </p:nvPicPr>
        <p:blipFill>
          <a:blip r:embed="rId1"/>
          <a:stretch/>
        </p:blipFill>
        <p:spPr>
          <a:xfrm>
            <a:off x="1066680" y="17524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6284520" y="266688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Voul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6052680" y="380988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pou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2362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39480" y="380988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dét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MCj03972500000[1]"/>
          <p:cNvPicPr/>
          <p:nvPr/>
        </p:nvPicPr>
        <p:blipFill>
          <a:blip r:embed="rId1"/>
          <a:stretch/>
        </p:blipFill>
        <p:spPr>
          <a:xfrm>
            <a:off x="990720" y="2057400"/>
            <a:ext cx="213336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38102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member that the </a:t>
            </a:r>
            <a:r>
              <a:rPr b="0" i="1" lang="fr-FR" sz="2800" spc="-1" strike="noStrike">
                <a:solidFill>
                  <a:srgbClr val="ad0000"/>
                </a:solidFill>
                <a:latin typeface="Tahoma"/>
              </a:rPr>
              <a:t>passé composé</a:t>
            </a:r>
            <a:r>
              <a:rPr b="0" lang="fr-FR" sz="2800" spc="-1" strike="noStrike">
                <a:solidFill>
                  <a:srgbClr val="ad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s used to express </a:t>
            </a:r>
            <a:r>
              <a:rPr b="0" i="1" lang="fr-FR" sz="2800" spc="-1" strike="noStrike" u="sng">
                <a:solidFill>
                  <a:srgbClr val="ad0000"/>
                </a:solidFill>
                <a:uFillTx/>
                <a:latin typeface="Tahoma"/>
              </a:rPr>
              <a:t>completed past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j0237922"/>
          <p:cNvPicPr/>
          <p:nvPr/>
        </p:nvPicPr>
        <p:blipFill>
          <a:blip r:embed="rId1"/>
          <a:stretch/>
        </p:blipFill>
        <p:spPr>
          <a:xfrm>
            <a:off x="5943600" y="1523880"/>
            <a:ext cx="2282760" cy="198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198099"/>
          <p:cNvPicPr/>
          <p:nvPr/>
        </p:nvPicPr>
        <p:blipFill>
          <a:blip r:embed="rId2"/>
          <a:stretch/>
        </p:blipFill>
        <p:spPr>
          <a:xfrm>
            <a:off x="1523880" y="3886200"/>
            <a:ext cx="140976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3962520" y="43988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imparfai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xp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habitual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continuing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209680" y="19810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imparfai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xp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Description and emotions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NaturesScenery.jpg"/>
          <p:cNvPicPr/>
          <p:nvPr/>
        </p:nvPicPr>
        <p:blipFill>
          <a:blip r:embed="rId1"/>
          <a:stretch/>
        </p:blipFill>
        <p:spPr>
          <a:xfrm>
            <a:off x="1219320" y="37339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images-3.jpeg"/>
          <p:cNvPicPr/>
          <p:nvPr/>
        </p:nvPicPr>
        <p:blipFill>
          <a:blip r:embed="rId2"/>
          <a:stretch/>
        </p:blipFill>
        <p:spPr>
          <a:xfrm>
            <a:off x="5105520" y="4038480"/>
            <a:ext cx="3301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457200" y="15238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Au centre, écrivez une activité que vous avez fait le weekend dern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Puis sur les pétales, donnez des détails sur cette activit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images.jpeg"/>
          <p:cNvPicPr/>
          <p:nvPr/>
        </p:nvPicPr>
        <p:blipFill>
          <a:blip r:embed="rId1"/>
          <a:stretch/>
        </p:blipFill>
        <p:spPr>
          <a:xfrm>
            <a:off x="2514600" y="3505320"/>
            <a:ext cx="4876920" cy="2982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33"/>
                </a:solidFill>
                <a:latin typeface="Tahoma"/>
              </a:rPr>
              <a:t>Prenez un tableau et dessinez une fleur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images.jpeg"/>
          <p:cNvPicPr/>
          <p:nvPr/>
        </p:nvPicPr>
        <p:blipFill>
          <a:blip r:embed="rId1"/>
          <a:stretch/>
        </p:blipFill>
        <p:spPr>
          <a:xfrm>
            <a:off x="1752480" y="1981080"/>
            <a:ext cx="6172200" cy="4354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33"/>
                </a:solidFill>
                <a:latin typeface="Tahoma"/>
              </a:rPr>
              <a:t>Exemple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191120" y="3657600"/>
            <a:ext cx="144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 suis allé au ciné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181480" y="2362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’était 7: 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6095880" y="350532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l faisait froid et il pleuva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5105520" y="48006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e portais un impermé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2057400" y="36576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’étais avec  mes par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124080" y="5105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is j’étais mal luné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48120" y="24382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e film était n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2004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i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391920" y="27432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omple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352680" y="3809880"/>
            <a:ext cx="15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536280" y="495288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eginning and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j0234131"/>
          <p:cNvPicPr/>
          <p:nvPr/>
        </p:nvPicPr>
        <p:blipFill>
          <a:blip r:embed="rId1"/>
          <a:stretch/>
        </p:blipFill>
        <p:spPr>
          <a:xfrm>
            <a:off x="838080" y="1905120"/>
            <a:ext cx="20782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577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ils ____________ le châtea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qu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s _________ fatigués, et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ê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 très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f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581280" y="1828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ont quit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6765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fais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ét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1055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733920" y="3429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00400" y="4724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garçon ____________ à nos 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dema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e qu ’ils ___________ prendre.  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voulo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__ une g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comma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581280" y="1828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 deman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219320" y="3809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ont comman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666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voul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1055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257800" y="3581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191120" y="4724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elle _________ plus jeu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ê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uzanne ________ français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par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nglais.  Mais elle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oubl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 ’angl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098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ét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800600" y="3809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 oubl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971800" y="2743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parl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724280" y="1600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4876920" y="3429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505320" y="4800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 soeur __________ au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jou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elle ___________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to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_ la chev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se fou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098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jou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219320" y="3809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s ’est fou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505320" y="28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est tomb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029200" y="16002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inuing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486400" y="34290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581280" y="4800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j ’_________ neuf a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avo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j ’ __________ à Paris, et j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hab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 le métro tous les j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prend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5812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v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14300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pre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82880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habi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029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9880" y="3581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3352680" y="4800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Jeudi dernier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, je suis allé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New York avec mon am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ét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train.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pr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train à 9 heures et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sommes arrivé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Grand Central à 10 heures 1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D’ab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b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afé, puis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visit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musée Metropol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Après ç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mang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Finalem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sommes rentré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Fairfield le so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34131"/>
          <p:cNvPicPr/>
          <p:nvPr/>
        </p:nvPicPr>
        <p:blipFill>
          <a:blip r:embed="rId1"/>
          <a:stretch/>
        </p:blipFill>
        <p:spPr>
          <a:xfrm>
            <a:off x="7315200" y="-4680"/>
            <a:ext cx="14479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un jour / une 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e jour-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e matin-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à ce moment –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tout d’un c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Soud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MCj04235510000[1]"/>
          <p:cNvPicPr/>
          <p:nvPr/>
        </p:nvPicPr>
        <p:blipFill>
          <a:blip r:embed="rId1"/>
          <a:stretch/>
        </p:blipFill>
        <p:spPr>
          <a:xfrm>
            <a:off x="7010280" y="1295280"/>
            <a:ext cx="1644840" cy="1832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h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undi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e mois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a semaine derniè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e weekend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’année derniè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il y a ---- 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Cj04235510000[1]"/>
          <p:cNvPicPr/>
          <p:nvPr/>
        </p:nvPicPr>
        <p:blipFill>
          <a:blip r:embed="rId1"/>
          <a:stretch/>
        </p:blipFill>
        <p:spPr>
          <a:xfrm>
            <a:off x="7162920" y="304920"/>
            <a:ext cx="1644480" cy="1831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Uses of 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imparfait, however, by definition, means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imperfec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Its uses are much less clearly defin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600200" y="3505320"/>
            <a:ext cx="7238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hey fall into three basic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bitual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tinuing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scription (non-action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943600" y="40384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used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400800" y="45720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was do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629400" y="5105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d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352680" y="1600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ontinu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389400" y="274320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nd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469320" y="380988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imes/ 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429000" y="4952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469320" y="22096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bi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352680" y="3276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387240" y="441972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613560" y="2116080"/>
            <a:ext cx="22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5105520" y="2895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25780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5943600" y="2057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escription (ma journée à N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fais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 et chau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’ét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printemps. Il y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v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coup d’arbres en fle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ét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ureuse</a:t>
            </a: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orta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 joli chapeau à fle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Habitual  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d j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’éta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u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us les jours, j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ida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 mère à faire la vaissel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temps en temps mon frèr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onda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 gazon, mais souvent i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oua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 baseball avec ses am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j0232738"/>
          <p:cNvPicPr/>
          <p:nvPr/>
        </p:nvPicPr>
        <p:blipFill>
          <a:blip r:embed="rId1"/>
          <a:stretch/>
        </p:blipFill>
        <p:spPr>
          <a:xfrm>
            <a:off x="7543800" y="380880"/>
            <a:ext cx="127620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0199036"/>
          <p:cNvPicPr/>
          <p:nvPr/>
        </p:nvPicPr>
        <p:blipFill>
          <a:blip r:embed="rId2"/>
          <a:stretch/>
        </p:blipFill>
        <p:spPr>
          <a:xfrm>
            <a:off x="6858000" y="4038480"/>
            <a:ext cx="16588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2:19:41Z</dcterms:modified>
  <cp:revision>79</cp:revision>
  <dc:subject/>
  <dc:title>Allez, viens! – Level 2</dc:title>
</cp:coreProperties>
</file>